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A49-3A27-495A-B86E-61308EC0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B3C-9F6C-49E9-A285-38AA93D8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16F-2738-4867-9F53-6796AD87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E70-92B1-481C-A4B4-31D50EE0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0A61-3604-4479-A38B-C3F41E8E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192D-D662-4654-A10B-894CA6AA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9B60-37CF-4701-92FD-C1D9A0AE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9903-DA2E-4E12-9121-E28C242B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AC9C-D989-4419-B44B-1ED1E1B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D14C-FE1F-4ED2-9C5B-6F90B8F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6F78-772A-48D5-A934-0F3604B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3C7-8AA0-4B36-B6C1-A9BFB66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ED6A-CB7E-44CB-AFF3-BC7E98A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72AD-42E9-4689-8ED4-AFCB0798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3915-5C18-498C-8B03-7EC92BB9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480-4FE1-4180-9440-C915FE1D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A09F-CCDE-42DC-AB38-7ECE032D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B43-5A05-4C43-AEA7-A301C24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3FC-5089-43CC-9D55-7AA3D71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539-9022-4A30-B701-6A394E72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398-D9C9-4073-BB82-80475DBE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B1A-01C7-4153-95FC-EFF2539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779-E2EC-4B2A-A30A-7A642CB4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012-01F3-4995-BF1E-6AC59D2C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892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08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4056120"/>
            <a:ext cx="906768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48000"/>
          </a:bodyPr>
          <a:p>
            <a:pPr marL="164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592E9-5F9E-4A6B-9FF0-60D6D058FEE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004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4ED3A-640C-4F49-9CA4-A91DC014FC9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341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8000" y="6480000"/>
            <a:ext cx="22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Wydawnictwo Dra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52360" y="2390760"/>
            <a:ext cx="807732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2a6099"/>
                </a:solidFill>
                <a:latin typeface="Arial Black"/>
              </a:rPr>
              <a:t>Les lieux de l’</a:t>
            </a:r>
            <a:r>
              <a:rPr b="0" lang="pl-PL" sz="4400" spc="-1" strike="noStrike">
                <a:solidFill>
                  <a:srgbClr val="2a6099"/>
                </a:solidFill>
                <a:latin typeface="Arial Black"/>
                <a:ea typeface="Times New Roman"/>
              </a:rPr>
              <a:t>éc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0360" y="936720"/>
            <a:ext cx="9550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98440"/>
            <a:ext cx="907092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4000"/>
                </a:solidFill>
                <a:latin typeface="Arial Black"/>
              </a:rPr>
              <a:t>Quels lieux de l’</a:t>
            </a:r>
            <a:r>
              <a:rPr b="0" lang="pl-PL" sz="3600" spc="-1" strike="noStrike">
                <a:solidFill>
                  <a:srgbClr val="ff4000"/>
                </a:solidFill>
                <a:latin typeface="Arial Black"/>
                <a:ea typeface="Times New Roman"/>
              </a:rPr>
              <a:t>école connai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360" y="936720"/>
            <a:ext cx="9847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298440"/>
            <a:ext cx="907092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2a6099"/>
                </a:solidFill>
                <a:latin typeface="Arial Black"/>
              </a:rPr>
              <a:t>Quels lieux de l’</a:t>
            </a:r>
            <a:r>
              <a:rPr b="0" lang="pl-PL" sz="3600" spc="-1" strike="noStrike">
                <a:solidFill>
                  <a:srgbClr val="2a6099"/>
                </a:solidFill>
                <a:latin typeface="Arial Black"/>
                <a:ea typeface="Times New Roman"/>
              </a:rPr>
              <a:t>école connai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36720"/>
            <a:ext cx="10049040" cy="55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2T20:20:03Z</dcterms:created>
  <dc:creator/>
  <dc:description/>
  <dc:language>en-US</dc:language>
  <cp:lastModifiedBy/>
  <dcterms:modified xsi:type="dcterms:W3CDTF">2020-12-02T20:44:04Z</dcterms:modified>
  <cp:revision>4</cp:revision>
  <dc:subject/>
  <dc:title>Blue Curve</dc:title>
</cp:coreProperties>
</file>